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LASER.WAV" ContentType="audio/x-wav"/>
  <Override PartName="/ppt/media/CAMERA.WAV" ContentType="audio/x-wav"/>
  <Override PartName="/ppt/media/image1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6DC8-F514-4D71-8448-9382FAA0C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hree t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vo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68BF-2CCF-4AE6-9C53-44087C30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622-22E8-4065-8163-3427A9EA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B9F6-6204-4D02-B621-20D998D5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B1A-4024-42C3-9904-6F5B82C4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B799-8D89-4F40-B35E-D6B9BA0A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EFBE-D8C8-4FA0-AD20-95B3DF6B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809E-3C08-47F0-AD7E-311E140E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88C6-8420-4439-9082-D8FE442D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5669-B2EA-46CE-8B67-1DAAA6D5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1410-1E78-4403-9C32-5F5106C8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7F2C-D3C2-460E-A29E-19268FE2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C0B-7987-4059-8C9F-BC060F61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5C61-3CA0-41DB-8FD5-3C51F8BD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BE0B-EF96-44DA-BCCA-4D9BBDB3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A53C-24F5-47AE-9BE3-39FDA577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89C1-4409-40B7-950E-741CF4C4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3040-1746-464C-8498-A763170F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736E-73A6-49B7-A675-8D3C230D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4F2-141B-4A08-9F9A-C76BE17C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36D-4D31-4DBA-8B2D-DF1C6B93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255-4B07-40FC-A67D-6BD4A271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780-2EB0-4D59-B535-C763A0E4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6D95-8511-4DC5-8895-B65E66AD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300-62E7-4ED1-8D49-7D94424F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tin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pter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562360" y="464040"/>
            <a:ext cx="289548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icate the time of the action in relation to the adjoining ver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pres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iple indicates the action is going on at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me ti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the ver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fu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iple indicates the action will happe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f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ver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iple indicates that the action happen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ver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5334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tting on the couch, the boy eat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dens in lecto, puer edi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2120" y="609480"/>
            <a:ext cx="4572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articiple Use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749160" y="5867280"/>
            <a:ext cx="8094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boy is sitting on the couch at the same time that he is ea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75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75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75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75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75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75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75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75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62360" y="464040"/>
            <a:ext cx="289548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st like any other adjective, it describes a nou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2971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aughtered ambassad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2971800"/>
            <a:ext cx="3200400" cy="45720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ati neca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62120" y="609480"/>
            <a:ext cx="4572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articiple Use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1724400" y="3873600"/>
            <a:ext cx="23295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sto MT"/>
              </a:rPr>
              <a:t>violat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sto MT"/>
              </a:rPr>
              <a:t>hosp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59240" y="38797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violated</a:t>
            </a:r>
            <a:r>
              <a:rPr b="0" lang="en-US" sz="2400" spc="-1" strike="noStrike">
                <a:solidFill>
                  <a:srgbClr val="ffffff"/>
                </a:solidFill>
                <a:latin typeface="Westminster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gue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75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75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Univers (W1)"/>
              </a:rPr>
              <a:t>Practice declining and translating….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nd pp - re + ns, nti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6171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 Remember that for 3rd-io and 4th conjugation verbs, you must drop the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entir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nfinitive ending, then add -</a:t>
            </a:r>
            <a:r>
              <a:rPr b="1" lang="en-US" sz="1600" spc="-1" strike="noStrike">
                <a:solidFill>
                  <a:srgbClr val="00ff99"/>
                </a:solidFill>
                <a:latin typeface="Arial"/>
              </a:rPr>
              <a:t>i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before adding the adjective ending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4880" y="1717560"/>
            <a:ext cx="70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badi MT Condensed Light"/>
              </a:rPr>
              <a:t>Munio, munire, munivi, muni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74880" y="3165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520" y="3200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9640" y="35812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160" y="35053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t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89640" y="396252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160" y="388620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ti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89280" y="434340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2520" y="426708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000" y="47242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2160" y="464832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ti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80440" y="5268960"/>
            <a:ext cx="38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badi MT Condensed Light"/>
              </a:rPr>
              <a:t>“</a:t>
            </a:r>
            <a:r>
              <a:rPr b="1" lang="en-US" sz="2800" spc="-1" strike="noStrike">
                <a:solidFill>
                  <a:srgbClr val="ff7c80"/>
                </a:solidFill>
                <a:latin typeface="Abadi MT Condensed Light"/>
              </a:rPr>
              <a:t>building, fortifying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371600" y="380880"/>
            <a:ext cx="4343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b3b3b"/>
                    </a:gs>
                    <a:gs pos="100000">
                      <a:srgbClr val="808080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ntique Olive (W1)"/>
              </a:rPr>
              <a:t>Present Active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ntique Olive (W1)"/>
              <a:ea typeface="Antique Olive (W1)"/>
            </a:endParaRPr>
          </a:p>
        </p:txBody>
      </p:sp>
    </p:spTree>
  </p:cSld>
  <p:transition>
    <p:dissolv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75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75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75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75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75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75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Univers (W1)"/>
              </a:rPr>
              <a:t>Practice declining and translating….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th p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1752480"/>
            <a:ext cx="70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badi MT Condensed Light"/>
              </a:rPr>
              <a:t>Munio, munire, munivi, muni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73800" y="316548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s, a, 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1440" y="320040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i, ae,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88560" y="358128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i, ae,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0000" y="350532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orum, arum, or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000" y="39625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o, ae,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1440" y="388620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is, is,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88560" y="434340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m, am, 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520" y="426708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os, as,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360" y="47242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o, a,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1440" y="46483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is, is,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9320" y="5268960"/>
            <a:ext cx="75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badi MT Condensed Light"/>
              </a:rPr>
              <a:t>“</a:t>
            </a:r>
            <a:r>
              <a:rPr b="1" lang="en-US" sz="2800" spc="-1" strike="noStrike">
                <a:solidFill>
                  <a:srgbClr val="ff7c80"/>
                </a:solidFill>
                <a:latin typeface="Abadi MT Condensed Light"/>
              </a:rPr>
              <a:t>having been built, having been fortifie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371600" y="609480"/>
            <a:ext cx="4343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33"/>
                    </a:gs>
                    <a:gs pos="100000">
                      <a:srgbClr val="ff66cc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ntique Olive (W1)"/>
              </a:rPr>
              <a:t>Perfect Passive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33"/>
                  </a:gs>
                  <a:gs pos="100000">
                    <a:srgbClr val="ff66cc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ntique Olive (W1)"/>
              <a:ea typeface="Antique Olive (W1)"/>
            </a:endParaRPr>
          </a:p>
        </p:txBody>
      </p:sp>
    </p:spTree>
  </p:cSld>
  <p:transition spd="slow">
    <p:pull dir="l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75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75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75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75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75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75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7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7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7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7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75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75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75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75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Univers (W1)"/>
              </a:rPr>
              <a:t>Practice declining and translating….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th pp - us + ur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1752480"/>
            <a:ext cx="70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badi MT Condensed Light"/>
              </a:rPr>
              <a:t>Munio, munire, munivi, muni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73800" y="31654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rus, a, 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1080" y="320040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ri, ae,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88560" y="358128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ri, ae,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0000" y="350532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rorum, arum, or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89640" y="396252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ro, ae,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1080" y="3886200"/>
            <a:ext cx="20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ris, is,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88200" y="434340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rum, am, 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160" y="42670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ros, as,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000" y="472428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ro, a,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1080" y="4648320"/>
            <a:ext cx="20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turis, is,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66880" y="5268960"/>
            <a:ext cx="591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badi MT Condensed Light"/>
              </a:rPr>
              <a:t>“</a:t>
            </a:r>
            <a:r>
              <a:rPr b="1" lang="en-US" sz="2800" spc="-1" strike="noStrike">
                <a:solidFill>
                  <a:srgbClr val="ff7c80"/>
                </a:solidFill>
                <a:latin typeface="Abadi MT Condensed Light"/>
              </a:rPr>
              <a:t>about to build, about to fortif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371600" y="609480"/>
            <a:ext cx="4343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vantGarde"/>
              </a:rPr>
              <a:t>Future Active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vantGarde"/>
              <a:ea typeface="AvantGarde"/>
            </a:endParaRPr>
          </a:p>
        </p:txBody>
      </p:sp>
    </p:spTree>
  </p:cSld>
  <p:transition spd="slow">
    <p:pull dir="r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75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75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75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75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75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75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75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75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75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75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75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75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75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75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75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75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75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75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75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75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75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ntique Olv (W1)"/>
              </a:rPr>
              <a:t>More on Future Active Participles…..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times they are best translated as relative (dependent) clauses……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1840" y="3319560"/>
            <a:ext cx="84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Hannibal proelium cum Romanis </a:t>
            </a:r>
            <a:r>
              <a:rPr b="0" lang="en-US" sz="2400" spc="-1" strike="noStrike">
                <a:solidFill>
                  <a:srgbClr val="ff3300"/>
                </a:solidFill>
                <a:latin typeface="Calisto MT"/>
              </a:rPr>
              <a:t>commissurus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de mo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in Italiam ven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1520" y="425592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Hannibal, about to begin battle, 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315200" y="4267080"/>
            <a:ext cx="4953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OR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1899000" y="4876920"/>
            <a:ext cx="65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Hannibal, who was going to begin battle, 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Univers (W1)"/>
              </a:rPr>
              <a:t>Practice declining and translating….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nd pp - re + ndu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1752480"/>
            <a:ext cx="70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badi MT Condensed Light"/>
              </a:rPr>
              <a:t>Munio, munire, munivi, muni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74160" y="316548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dus, a, 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1440" y="320040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di, ae,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88920" y="358128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di, ae,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0360" y="350532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dorum, arum, or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360" y="39625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do, ae,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1800" y="38862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dis, is,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88560" y="434340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dum, am, 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520" y="426708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dos, as,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360" y="472428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do, a,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1800" y="464832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niendis, is,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09080" y="510552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33"/>
                </a:solidFill>
                <a:latin typeface="Abadi MT Condensed Light"/>
              </a:rPr>
              <a:t>“</a:t>
            </a:r>
            <a:r>
              <a:rPr b="1" lang="en-US" sz="2800" spc="-1" strike="noStrike">
                <a:solidFill>
                  <a:srgbClr val="666633"/>
                </a:solidFill>
                <a:latin typeface="Abadi MT Condensed Light"/>
              </a:rPr>
              <a:t>must be built, must be fortifie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371600" y="609480"/>
            <a:ext cx="4343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Future Passive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1050840" y="5867280"/>
            <a:ext cx="649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Tahoma"/>
              </a:rPr>
              <a:t>* again, remember that with 3rd-io and 4th conjugation verbs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Tahoma"/>
              </a:rPr>
              <a:t>you need to drop the </a:t>
            </a:r>
            <a:r>
              <a:rPr b="1" i="1" lang="en-US" sz="1600" spc="-1" strike="noStrike">
                <a:solidFill>
                  <a:srgbClr val="00ffcc"/>
                </a:solidFill>
                <a:latin typeface="Tahoma"/>
              </a:rPr>
              <a:t>entire</a:t>
            </a:r>
            <a:r>
              <a:rPr b="0" lang="en-US" sz="1600" spc="-1" strike="noStrike">
                <a:solidFill>
                  <a:srgbClr val="00ffcc"/>
                </a:solidFill>
                <a:latin typeface="Tahoma"/>
              </a:rPr>
              <a:t> infinitive ending, add -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ie</a:t>
            </a:r>
            <a:r>
              <a:rPr b="0" lang="en-US" sz="1600" spc="-1" strike="noStrike">
                <a:solidFill>
                  <a:srgbClr val="00ffcc"/>
                </a:solidFill>
                <a:latin typeface="Tahoma"/>
              </a:rPr>
              <a:t>-, then ad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Tahoma"/>
              </a:rPr>
              <a:t>the adjective end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75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75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75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75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75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75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75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75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75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75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75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75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75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75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75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75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75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75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75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75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75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 rot="5400000">
            <a:off x="-1788480" y="2626560"/>
            <a:ext cx="5486400" cy="1299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eview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"/>
          <p:cNvSpPr/>
          <p:nvPr/>
        </p:nvSpPr>
        <p:spPr>
          <a:xfrm>
            <a:off x="2193840" y="2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33280" y="270000"/>
            <a:ext cx="716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Another name for the fourth principal part of a verb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___________________, and it functions as a(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______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47680" y="1523880"/>
            <a:ext cx="68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articiples can/cannot function by themselves a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verb of a sent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11400" y="2403360"/>
            <a:ext cx="59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. A participle can modify what part of spee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63280" y="3089160"/>
            <a:ext cx="52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Translate the following sente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badi MT Condensed Light"/>
              </a:rPr>
              <a:t>Vir ducens animalia Hannibal e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89360" y="487692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/are the object(s) of </a:t>
            </a:r>
            <a:r>
              <a:rPr b="0" i="1" lang="en-US" sz="2400" spc="-1" strike="noStrike">
                <a:solidFill>
                  <a:srgbClr val="00ff99"/>
                </a:solidFill>
                <a:latin typeface="Times New Roman"/>
              </a:rPr>
              <a:t>duce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90920" y="5335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63240" y="70956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perfect passive particip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30040" y="9907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dj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0680" y="152388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AN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666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 noun or prono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90760" y="4003560"/>
            <a:ext cx="62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e man leading the animals is Hannib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82040" y="5410080"/>
            <a:ext cx="5036040" cy="825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Palatino"/>
              </a:rPr>
              <a:t>Animalia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is not the object of </a:t>
            </a:r>
            <a:r>
              <a:rPr b="0" lang="en-US" sz="2400" spc="-1" strike="noStrike">
                <a:solidFill>
                  <a:srgbClr val="00ff99"/>
                </a:solidFill>
                <a:latin typeface="Palatino"/>
              </a:rPr>
              <a:t>est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It is the object of </a:t>
            </a:r>
            <a:r>
              <a:rPr b="1" i="1" lang="en-US" sz="2400" spc="-1" strike="noStrike">
                <a:solidFill>
                  <a:srgbClr val="ffffff"/>
                </a:solidFill>
                <a:latin typeface="Palatino"/>
              </a:rPr>
              <a:t>ducens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ractice Senten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Senex, multas iniuria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ssus</a:t>
            </a: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, auxilium petivi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4000" y="327672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 amici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citat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certavi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6360" y="4687920"/>
            <a:ext cx="59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Arial"/>
              </a:rPr>
              <a:t>Anulum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ventum</a:t>
            </a:r>
            <a:r>
              <a:rPr b="1" lang="en-US" sz="2400" spc="-1" strike="noStrike">
                <a:solidFill>
                  <a:srgbClr val="00ff99"/>
                </a:solidFill>
                <a:latin typeface="Arial"/>
              </a:rPr>
              <a:t> ad dominum tulim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7880" y="2655720"/>
            <a:ext cx="84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Palatino"/>
              </a:rPr>
              <a:t>The old man, having suffered many injuries, sought hel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5760" y="3875040"/>
            <a:ext cx="60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Palatino"/>
              </a:rPr>
              <a:t>Encouraged by his friends, he compe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76400" y="53229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Palatino"/>
              </a:rPr>
              <a:t>When the ring had been found, we took it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36960" y="5772240"/>
            <a:ext cx="58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(We took the ring having been found to the master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7467480" y="3276720"/>
          <a:ext cx="9651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3276720"/>
                    <a:ext cx="9651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4000"/>
                            </p:stCondLst>
                            <p:childTnLst>
                              <p:par>
                                <p:cTn id="93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6500"/>
                            </p:stCondLst>
                            <p:childTnLst>
                              <p:par>
                                <p:cTn id="937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85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bcbcb"/>
                </a:solidFill>
                <a:latin typeface="Comic Sans MS"/>
              </a:rPr>
              <a:t>ANY QUESTIONS?</a:t>
            </a:r>
            <a:endParaRPr b="0" lang="en-US" sz="8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990720"/>
            <a:ext cx="162864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ESENT ACTIVE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553080" y="1066680"/>
            <a:ext cx="160020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PERFECT ACTIVE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5486400"/>
            <a:ext cx="20574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Palatino"/>
              </a:rPr>
              <a:t>FUTURE ACTIVE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Palatino"/>
              <a:ea typeface="Palatino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553080" y="5562720"/>
            <a:ext cx="18939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FUTURE PASSIVE</a:t>
            </a:r>
            <a:endParaRPr b="0" lang="en-US" sz="20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9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cipl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s that form of the verb which is used like an adjectiv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it is a verb, it has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ens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voi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It can take a direct object, an indirect object, et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it is an adjective, it ha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s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mb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nd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and it will modify a nou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orm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867280"/>
            <a:ext cx="7238880" cy="9907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sent active participles are declined like third declension adjectives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ile perfect passive, future active and passive participles 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lined like first/second declension adjectiv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81280" y="1600200"/>
            <a:ext cx="9050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ctive</a:t>
            </a:r>
            <a:endParaRPr b="0" lang="en-US" sz="20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400800" y="1600200"/>
            <a:ext cx="1104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assive</a:t>
            </a:r>
            <a:endParaRPr b="0" lang="en-US" sz="20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2950200" y="252900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nd pp - re + ns, nt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88760" y="290988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-ing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000" y="3581280"/>
            <a:ext cx="8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th 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4560" y="396252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ving been x-ed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96480" y="4738680"/>
            <a:ext cx="26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th pp - us +urus, a, 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4920" y="5029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out to x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88320" y="4724280"/>
            <a:ext cx="27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nd pp - re + ndus, a, 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8280" y="502920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st be x-ed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Third -io and Fourth Conjugation Verb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careful when forming the present active and future passive participles for 3rd -io and 4th conjugation verb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p the </a:t>
            </a:r>
            <a:r>
              <a:rPr b="0" i="1" lang="en-US" sz="3200" spc="-1" strike="noStrike">
                <a:solidFill>
                  <a:srgbClr val="ff7c80"/>
                </a:solidFill>
                <a:latin typeface="Arial"/>
              </a:rPr>
              <a:t>enti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finitive ending (ire/er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-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dd the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-ns, -nt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 -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ndus, a, u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esent Active Particip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nd pp - re + ns, n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rvo, servar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drop the “re”, add -ns, -nti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b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b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all that for the third declension, you must go to the </a:t>
            </a:r>
            <a:r>
              <a:rPr b="1" lang="en-US" sz="2800" spc="-1" strike="noStrike">
                <a:solidFill>
                  <a:srgbClr val="ff66cc"/>
                </a:solidFill>
                <a:latin typeface="Arial"/>
              </a:rPr>
              <a:t>genitiv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get the ste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105520"/>
            <a:ext cx="7772400" cy="533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are the endings for the masculine and feminine forms of the adjectiv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the neuter forms, use the third declension neuter ending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esent Active Particip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nd pp - re + ns, n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rvo, servar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drop the “re”, add -ns, -nti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b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v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b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all that for the third declension, you must go to the </a:t>
            </a:r>
            <a:r>
              <a:rPr b="1" lang="en-US" sz="2800" spc="-1" strike="noStrike">
                <a:solidFill>
                  <a:srgbClr val="ff66cc"/>
                </a:solidFill>
                <a:latin typeface="Arial"/>
              </a:rPr>
              <a:t>genitiv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get the ste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105520"/>
            <a:ext cx="7772400" cy="533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are the endings for the neuter forms of the adjectiv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erfect Passive Particip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th p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o, servare, servavi, servat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us, a, um            servati, ae,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i, ae, 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orum, arum, o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o, ae, 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is, is, 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m, 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os, as,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o, a, 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is, is, 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1160" y="57214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Univers (WL)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Univers (WL)"/>
              </a:rPr>
              <a:t>having been save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133720" y="228600"/>
            <a:ext cx="549576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clined like a 1st/2nd declension adjective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hecker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ture Active Particip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th pp - us + urus, a, u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o, servare, servavi, servat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urus, a, um        servaturi, ae,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uri, ae, 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urorum, arum, o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uro, ae, 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uris, is, 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urum, am, 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uros, as,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uro, a, 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turis, is, 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28520" y="5721480"/>
            <a:ext cx="23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Univers (WL)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Univers (WL)"/>
              </a:rPr>
              <a:t>about to sav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54440" y="5683320"/>
            <a:ext cx="44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Westminster"/>
              </a:rPr>
              <a:t>Declined</a:t>
            </a:r>
            <a:r>
              <a:rPr b="0" lang="en-US" sz="2400" spc="-1" strike="noStrike">
                <a:solidFill>
                  <a:srgbClr val="006600"/>
                </a:solidFill>
                <a:latin typeface="Westminster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Westminster"/>
              </a:rPr>
              <a:t>like a 1st/2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Westminster"/>
              </a:rPr>
              <a:t>declension adj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75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75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75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75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75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75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75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75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75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75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75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75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75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75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ture Passive Particip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nd pp - re + ndus, a, u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o, servare, servavi, servat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ndus, a, 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ndi, ae,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ndi, ae, 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ndorum, arum, o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ndo, ae, 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ndis, is, 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ndum, am, 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ndos, as,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ndo, a, 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andis, is, 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21320" y="57214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Univers (WL)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Univers (WL)"/>
              </a:rPr>
              <a:t>must be save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3720000">
            <a:off x="990360" y="3091680"/>
            <a:ext cx="594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lbertus Extra Bold (W1)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lbertus Extra Bold (W1)"/>
              </a:rPr>
              <a:t>Declined like a 1st/2nd declension adjectiv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75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75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4T00:08:06Z</dcterms:created>
  <dc:creator>Bel Air High School</dc:creator>
  <dc:description/>
  <dc:language>en-US</dc:language>
  <cp:lastModifiedBy>William H. Snyder, Jr.</cp:lastModifiedBy>
  <dcterms:modified xsi:type="dcterms:W3CDTF">2007-01-15T19:01:27Z</dcterms:modified>
  <cp:revision>54</cp:revision>
  <dc:subject/>
  <dc:title>Participles</dc:title>
</cp:coreProperties>
</file>